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D406-2986-43B2-9F9F-8CDFEC7F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9FB6-860B-47EE-B332-706517EC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0D9B-C6DD-4D00-851E-23A3C6C65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759E-D859-4204-8375-143238516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15EA-566A-4AE2-A031-53392C6D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C28E-1281-499E-BE1F-009965E1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450B-3BA4-425B-ACBF-5F0AD31D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4CB7-E834-46C5-A337-E3E31F47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3E48-3B25-452C-AC3C-62431703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4960-BFAC-43F9-B4A2-E64642FE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BF35-702D-4B8D-9747-48A7F141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2816-A9BF-42E9-A0F1-65F3970A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9BC8-2D28-4228-A815-E166495F1690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80 Pán Boh je lás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Boh je láska svätá a stál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Boh je lásk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on nás má rá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váľme ho radostne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Boh je lásk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Boh je lásk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nás má rá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 nesmiernej lásky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l Syna svojho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ú veľkú obeť kto pochopí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váľme ho radostne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Boh je lásk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Boh je lásk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nás má rá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zve nás k seb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ilosť nám núk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trápení dáva Tešiteľ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váľme ho radostne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Boh je lásk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Boh je lásk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nás má rá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 celý život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rne mu slúžm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jeho menu vzdávajme česť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váľme ho radostne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Boh je lásk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Boh je lásk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nás má rád.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08:55:10Z</dcterms:modified>
  <cp:revision>81</cp:revision>
  <dc:subject/>
  <dc:title>Je veľký náš Pán, on slávy je Kráľ Nech do všetkých strán  spev vrúcnych znie chvál.</dc:title>
</cp:coreProperties>
</file>